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769C-65A9-4145-BAEA-9FB57BE9B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F26E-6623-4A1F-BE03-26AAFD5A2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911D-CFB9-4A93-B2D6-3AC08993F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2E20-E902-4AED-8DAC-6E7C36A2A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E47A-4C1F-44B8-9778-A33F7C6A9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E1C8-5DFE-4A45-8F08-DAF14FC22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5B93-C8AD-4FAC-858A-07C2BFBC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6060-D439-4234-AA59-608794FD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4639-C1EC-48F9-B2B3-A6EFABFB8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DD61-71C3-49E0-A55D-14C162F51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E8F5-1858-4A5B-BF51-50EC2BFF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1E7D-DE45-4834-B0D7-4E536193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3434-E40C-49F7-953D-D9E92BB1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0F4-BCE6-466E-B35C-FE4B13B7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1D91-36A2-49FE-8A10-88D5573F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3024-FF23-4F65-8788-EA415C9F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146D-110F-4536-A5E4-301DBFD9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F560-8C24-4A3C-8D58-4A811611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FD88-9D18-4061-82A8-681DBB6F5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 Long Way Gone: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Memoirs of a Boy Sold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A LONG WAY GONE"/>
          <p:cNvPicPr/>
          <p:nvPr/>
        </p:nvPicPr>
        <p:blipFill>
          <a:blip r:embed="rId1"/>
          <a:stretch/>
        </p:blipFill>
        <p:spPr>
          <a:xfrm>
            <a:off x="3121200" y="1981080"/>
            <a:ext cx="30510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erra Le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remember about Sierra Leone from the char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erra Le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pulation:  5 million- roughly half the size of Oh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Capita GDP Per Person: $900/ US- $46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Expectancy: 55/ US- 7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ant mortality: 12 deaths per 1,000- US deaths 6 per 1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is this loca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447920" y="1828800"/>
            <a:ext cx="635004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erra Le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WEST AFRICA MAP"/>
          <p:cNvPicPr/>
          <p:nvPr/>
        </p:nvPicPr>
        <p:blipFill>
          <a:blip r:embed="rId1"/>
          <a:stretch/>
        </p:blipFill>
        <p:spPr>
          <a:xfrm>
            <a:off x="1917720" y="1981080"/>
            <a:ext cx="5308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hmael Be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n Nov 23, 1980 in Sierra Le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 War, 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Soldier at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cued, 199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YC,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ted from Oberlin College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ishmael_beah"/>
          <p:cNvPicPr/>
          <p:nvPr/>
        </p:nvPicPr>
        <p:blipFill>
          <a:blip r:embed="rId1"/>
          <a:stretch/>
        </p:blipFill>
        <p:spPr>
          <a:xfrm>
            <a:off x="4913280" y="1981080"/>
            <a:ext cx="3279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vil War in Sierra Le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gotten Wa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erra Leone Civil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hmael Beah Found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ISHMAEL BEAH FOUNDATION"/>
          <p:cNvPicPr/>
          <p:nvPr/>
        </p:nvPicPr>
        <p:blipFill>
          <a:blip r:embed="rId1"/>
          <a:stretch/>
        </p:blipFill>
        <p:spPr>
          <a:xfrm>
            <a:off x="2895480" y="1523880"/>
            <a:ext cx="3443400" cy="41148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3203640" y="5715000"/>
            <a:ext cx="28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beahfound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hmael Bea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- http://video.google.com/videoplay?docid=8238302889157571517#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c Organizer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, What, When, Where and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we do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rica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rica is Di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is Sierra Le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 Organizer- Who is Ishmael Be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object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fer solutions to contemporary world problems- child soldiers/ blood diamond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scarcity influences socie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ntinent are they fr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ntinent are they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44196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continent is he fr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2298960" cy="35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ontinent are they fr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ntinent are they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819520" y="2743200"/>
            <a:ext cx="33908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r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r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F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419112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is this loca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is lo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2895480" y="2895480"/>
            <a:ext cx="33274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is this loca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505320" y="2666880"/>
            <a:ext cx="20318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tinent- How many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times the size of the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0 different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0 different groups- very div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9T16:47:46Z</dcterms:created>
  <dc:creator>Michael Farrell</dc:creator>
  <dc:description/>
  <dc:language>en-US</dc:language>
  <cp:lastModifiedBy>Craig Rush</cp:lastModifiedBy>
  <dcterms:modified xsi:type="dcterms:W3CDTF">2011-01-09T17:17:39Z</dcterms:modified>
  <cp:revision>5</cp:revision>
  <dc:subject/>
  <dc:title>A Long Way Gone:  Memoirs of a Boy Soldier</dc:title>
</cp:coreProperties>
</file>